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DA8-10AA-4691-AEF7-CC7A3CC4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509-86DC-4680-A836-945B4750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2D45E-0250-49D7-9506-8DF30C2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F470D-F209-4BD9-984A-2E53F935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18C70-5EC2-4966-AD26-DBADBBB2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8FC0F-0974-4146-AE87-01B0BE30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B079D-83EC-4CC6-8C9A-AAD0A571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34C46-9AFF-4A96-8287-E1E8DF9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A3C44-FC12-408E-82D6-0ECA9A6F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BFFB3-E416-4106-92D0-3A16A716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C947A-0560-48ED-85A5-EB6F635D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327F2-1454-4BD2-8107-F39B5B66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F18-5753-41AC-AA19-9DA7A320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1C7BB-61FF-4C44-906D-8134DB25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CBE52-6177-4F16-840B-219478A5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A673A-1506-4A88-B69B-866CA39D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149E2-25F5-4116-8499-5F4B4BA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81383-17E5-46BF-8CCB-3BE001FC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E3ED7-3CAB-464D-A420-3DE20E83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008BC-7D3B-4219-89EE-3E203532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40B9B-F075-4B8F-82E1-047C9F1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5D70C-4E55-4450-94F3-413B5E22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30D6D-41A7-4EAD-925D-9713FE5C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B2E-F818-4EBA-825B-7F6A5E32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38B8A-4510-4766-83BD-84132731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28D87-97A0-4E1F-A8CE-E7CE6CC8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7FC38-6767-437B-B238-54796635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5CD4F-6017-4F98-8B24-0715A403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15F4E-968B-4A48-8520-74726042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CFA38-18D2-4F8B-9166-1C16BD69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ED70F-4617-46CB-989E-94F05F5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EDE2B-EAD8-48A2-866E-74ABB296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AC786-1377-4702-9875-E5A9C0E0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9E460-354D-4997-ABEA-700297E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A0A5-EE17-411C-9165-B1F2C3BA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655D2-88AD-4666-8113-A6622D64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4298A-545D-4F36-8F4E-FEA69FDB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A57DA-7987-484B-8838-FB40F998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06497-461A-44F7-8134-75AAF892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5B399-E7FC-439C-8530-5377A478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4A29D-A26D-4D1C-A7B0-74F1C2CC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3C382-FE1D-4EDB-B9E0-703367E4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AFBFA-362A-4FF7-80C8-AD653103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49D5A-B537-4AAA-92AE-606E6F41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33908-275C-43D1-BD64-4B06BF5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F67F-668F-45C5-B2FA-7DB8C07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75A93-627A-4457-AD0E-A9A0CCA4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8A7A3-A892-48BB-AF72-72AB067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D361F-9892-489B-ABFD-40699601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68553-47C3-4F04-AF11-00141BF7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42F45-008D-40C5-A364-52B77FEE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B979D-C52A-44AB-918D-54BA5EC8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80148-7B6C-4490-81A0-70916172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AFD66-0553-421C-A393-D73C2C7A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94E87-D199-4E92-961B-C2F4A13F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B3306-96AB-40F7-B71B-1A58433A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90AA-99F4-4097-9237-F6A05FED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8D19F-8425-448D-96E6-D0F4A74F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7F36F-BF83-4161-A8BD-72F0E7C3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AB743-B52B-4BC0-900B-9E793698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3C592-64AA-4299-98A3-C00D6B01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DEBB4-9EFE-4D30-BAEB-C9BA51DC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DF9CE-E1E0-4AB6-A21A-93882313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921E7-E3A3-4D27-95FE-66646A89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5495E-37C6-4B7F-94DE-70101D43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5E578-5A2A-4AFD-B4F2-26E845A8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59A5B-9B12-46C3-BC94-6491F482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2CFE-CDB7-402A-88AD-1102CD04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FA1D5-2172-4CB0-A9DB-C95F2DFB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1A777-D013-4C83-834B-0340E35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F3DD0-F392-4DE2-9E74-035C1ADD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AAFD0-7721-4215-9938-F757E62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50917-3A40-47E3-B328-44F93AB9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52E5C-9E4F-4732-84DB-6A3941A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5FF56-B5D7-49CD-A88E-FAD4A170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09A69-6425-43FB-AB4A-19724CBE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1024C-68B5-474A-90AD-23C1D035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92862-8ECB-493A-8D04-2E8E091C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2554-5942-410A-89C0-B167AF29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C7333-4A22-405D-97D0-FB48FAFC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22A43-EA56-4E62-ADE5-7FAD66FA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7A5F5-2F62-484D-974D-14007368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41FC9-87FB-4679-8747-240C9D4C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C91A9-C6DE-42C4-B779-605A6985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A50CE-D7A6-4F4C-8837-FCBB78C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DC1C4-1D59-48D9-A16F-0E0D35A3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A24AA-C191-4D3A-8DA8-BA85581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F5134-9B2C-4266-B449-75EF55CF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E6F04-3651-4F4B-A3C1-742DD0F6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4D6D-775E-4A8B-B36E-026C1DB4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53A39-CBFC-402C-9553-60FE52F3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AD4C1-3334-4FE6-B122-775493DC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EE399-6906-46DC-95CA-A099391C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0EE41-1FD3-4A76-B17F-8EDCE995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E0116-0F14-429F-B7A5-54BA71E8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EB36D-0A6A-4317-A71B-4F5F2C47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9822E-E78A-4DE6-866A-09615449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8915D-7A64-4404-B3B6-0F72042F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FFDA8-E01C-4ADD-B4AC-C720729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6EA99-84BF-4AE2-8591-A7B08DBD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AA61-5A82-4769-9FF8-58AC260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CEBD5-7BE5-4E6D-B17A-44472BAF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CD959-C30D-4848-BFFD-422E9BB6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C0ACA-6314-45EF-BB15-500D3520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3247F-4B58-461F-9A39-579055B3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364B7-CD53-4D6C-A044-CB8ABC0A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8655C-5BC3-448F-9735-26EA2FBE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33C0CA-B7E2-45D2-A576-71ADB6C1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4F400-1188-4A06-BCEB-0BF6717F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72330-565A-4B51-A5C7-7DD33F8A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764FC-1628-4385-9E7E-C4286181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665-2BE3-4F75-89C3-EC08203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055A-FDB9-4484-A958-EA091AF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62058-0BA3-4B5C-80B5-B7B75684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452E6-95F4-4366-B3A9-8C9E4B50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35882-E799-45AF-9B6C-298D4D8C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C8D3D-2458-452E-8D6A-085D52EE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2AE1A-E01E-4DEC-A0E3-0CBCB9F7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37EA3-126D-4C48-8F8B-71A832A5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72EB5-1E37-4DBC-A4F5-8B1CA209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D9A30-4522-43FE-A9CC-85FCE68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02E35-8CC3-4179-8F1E-B429B38B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CAF26-7E2A-479C-9D4A-C5E007F3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6C20-AD70-45B2-B69D-5A2E5656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809BE1-AB02-4601-B2E7-30DF27A4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A6EEF-475A-42A2-9D6C-193469E0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C32B6-7E79-46DD-9140-4CC19299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04B2B-0437-40C7-A388-233AC9C5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139D7-14BC-47B3-A447-CEA8D8BA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2E3BB-E69A-41EE-94D1-47B02EAC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EAEEE-C265-4BDA-A048-1FBE6537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3D8E7B-1194-4CD8-B2EC-C6806213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3B408-A30D-4ECA-B5E4-F61D94A4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59FA4-6C35-441E-9353-023A2E6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4274-B9D7-4F32-A400-51FA6B5D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F65039-C99F-4FAA-861E-1F3C9803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66944-BF04-43C8-9C28-3A08C74E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1A7408-5624-4917-92E9-A49CBBF3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A4834-9859-4B73-9B39-286C4BD4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8F811-7D4F-4558-A59B-A7902D4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9B4869-15EA-484C-8A1A-BB546DE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05855B-BED0-451C-BB36-9A44413B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667CA-94AB-4DB4-84D4-BAEB357D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43950-1B70-4602-8355-4626AFCA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8E8D2-D05C-4117-B01C-45ECD9E1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452E-F9C3-4836-86C3-D4456493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A1499-8A73-4A89-A352-AE93FE69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546D8-BDA5-4AD2-8567-7F1DED3E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1ECE9-2169-4304-BE27-03517B5B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F800D-0320-48D0-8637-861DB3D0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BE82F0-833F-4959-836E-701C8001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8BB48-67A7-4B31-8A9E-A820FFE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1EF85-8594-49C8-9983-83EF9AC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12985-2EA5-4EA5-8A15-97DC83F7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FD8E5-BF62-46C3-8512-1D305897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7DD20-3535-43DC-BE3C-425F65EF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BF5D-3EC2-4AF6-9AB4-54EC2278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51C15-C6C4-4810-B6D1-D1A31818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ADD40-9834-4A68-A5CE-C48402CF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139A27-BDB0-4909-89CC-80D60161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04A77-34AF-4B8C-A6A2-6E2F140F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12625-7F4D-4101-BE01-DCC638D1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C445F-9D50-4785-8AB3-5CD676EA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053DD-FE8F-45C2-879C-E341BFCE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50207-CFBA-4AC9-84DA-61F2558F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1C8D1B-603F-4235-8610-90739C2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F65E0B-A49B-4338-861F-6CD76995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936C-2BB1-49A6-AF4B-5BA15EDA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6A9640-08E9-4742-AC53-6100A29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FFFB05-FFEF-43A3-80FE-56EC2564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AFEE73-9C31-4902-B25D-31D9FAE1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DAF5-9473-4ED8-804F-73077636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5861-BF2E-4EDE-9C98-3AAAE125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D93E-8611-4E8F-8710-CA73CB9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EFCE-4C3B-44DF-A385-C5826F30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053-3195-4BE5-B27A-1D22B65B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7BF9-BE4B-4582-9ADC-AF713488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7586-1D53-4A4B-BF30-013C40F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CBFF-5B47-47C7-9122-B6DA0E2C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84AA9-F06F-4CE7-A087-7974954E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09B2-2B48-4809-96F2-A59AE9A6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9ED4-861D-4D38-AE7E-8457EE42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8B4D-2AC5-40D2-9976-CEE5F21D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6653D-808A-4852-A943-298C8F86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39DE-A803-42FA-96F8-101844E3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8DC8-9C22-42CE-A38A-577A84C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FDE-D4C5-47D8-8BCD-223616C1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0128-D6E5-4C21-8ECF-D760798A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ED1B2-5279-42A1-999A-FFF47461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97AB-95C8-43F8-B85F-E09BDE42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5B890-8D58-4C80-B356-AF3D7B8E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93171-C448-42B3-8A79-659F0ACB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C333-E866-486D-A96A-E2F46282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1800-A02B-4F2E-9456-61FE8603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D445-E484-421A-8E5E-70EA6F67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D13B2-6273-4136-B5B8-CB7C3522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2831C-1C1A-4ABD-BF85-3703D3D5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D18-F7DE-45E8-B865-31061FBF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0186A-974A-4920-AB92-FB434CC2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190F-797A-432E-A678-A6D4E71D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A3519-3467-43B3-8F66-EF2E7BA2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58DD6-25C8-4AD2-86D2-98FD6FEF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CBAE0-B1DA-4225-A3F6-11718678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73D98-5623-44BA-BF76-08F6C27E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378D-D730-47C2-B433-998BEA2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FB137-848F-4039-BB72-AC9E16F3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E7DA4-3052-438C-B2D6-13AD90A7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1BD1F-7561-4933-AF5B-D0036C94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EC6-5228-4F42-934E-111D9C30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BE118-4FC7-4FF5-B95B-02B48ACA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294E-A76F-48AD-8202-1E2EED50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DDBD7-0CEA-42CB-8D5E-919BF3CD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89F5E-69F9-4405-8DA3-AA89BEDB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DFC6-5370-4783-AC84-CAA23219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60D49-1AF4-4FC1-844F-A8C5D4E7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8D46-4B89-41D6-A13A-EDAE3CEB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2BD5F-5CFE-4DE3-ADE4-4CFDC23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0AB58-81CB-44DA-A9BE-F4FB592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5DA8F-66CB-495E-9161-1CDC198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7EA-9B41-42B2-914B-6694726B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68F6-A00D-4000-9602-12A0C69E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EE948-67FD-4B94-8309-4DA08354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1C2F0-D000-44B5-B712-B00B888E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5B345-0B79-49C4-BE97-0416AA2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4E469-6C89-4D37-9192-F1850C90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35690-2361-489C-BD1A-75062E5B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99FBF-BE1F-4889-A2A3-03EE26C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CE7F-6E8B-41A1-9466-C09AD054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C8A6F-F817-4BCB-A86F-5510871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B2A8-D28E-4256-9A47-32E5B218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748-37F6-4729-9B5D-DF916E58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8491-0DAC-4352-8207-D7E5448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CB70D-5812-4594-83EA-5BC41C8E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E4004-3694-452D-A990-7A3AC81D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770BF-0957-4921-928A-E0CE9F30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5D8A5-D840-462A-B65F-12FAC279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47C6B-EAF1-4DA6-8734-55CE3EEF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9B52-AEEC-4D1B-A994-3F8EF60A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5C2F2-5BE5-4C38-A909-1BC90D33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C027F-AACC-49E7-B091-ADE4EF7B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443A7-A9A2-4FB5-88D6-02BCFDF1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009-8814-4D6C-8586-D66599E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0036-538A-4C3B-AA61-0A175CCE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B27FA-B1AC-4B18-9D2C-9632ADA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6A44B-7D89-4709-9C08-0DB14A6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66E5-8C95-4364-890C-8543F125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E8B90-C0D1-4911-9665-23E84A60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A1A43-6042-4F1E-B076-BAA9C79D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EBCBF-8BC3-43A2-B993-310A8D87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BFA5-6FF6-4384-8CAF-3530C35E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EAC63-2913-4A9C-8B37-DEA4FBED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032A1-0849-4AFE-96C1-996ADF4C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3C42-A682-4D3C-968E-6D5FAF603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4A1-59D9-4632-91D0-E99E10AA1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D867-9D9F-485B-BC6A-29219A80E3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A324-C171-4BFD-AD32-C58E9A4B18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3F85-A522-49F2-A4BF-410079816F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076D-63C1-4E38-917A-7446AC078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62F4-F4C1-4B26-B6C3-AB8ADA01D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8A0B-2BE9-4D7F-AB4E-3ED896D93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7527-9981-4DF1-BFD0-ABF7D7F2F6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B565-B67B-4FA3-B276-881D6307F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686F-3E04-4EA9-9B17-40432EB37D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2E8B-65DC-43C6-AE63-559CC58DC9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7DD8-E497-4A18-898D-31F51EAF53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B3F2-7ABF-49AD-95DC-4253B001E9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2D6C-890A-4AB0-A77D-43C912B879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BDAE-6878-44DA-B78C-6D04B3347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9E33-76D9-4A41-9173-E25D9C6621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371A-0030-4B82-9081-44DDECCD8D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65FD-294C-46C8-847F-8E44612A8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2C07-0A7D-4630-AD40-8BDCEFED3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4BD0-32D5-4A81-91E7-6DC5D2C23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209A-4B11-4CD1-A49D-15978B5884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BAA3-51EB-4325-B5C7-5D9AC8313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8D2-FE0D-49F7-B421-E0743CE8A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B9E8-BE7A-476A-9233-DA0F7AC86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99CB-78B5-4B9A-B76A-F82C00BC5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9730-3E6D-4796-92D8-63966A57EE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9108-DF66-4A2F-8C0B-551955318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1488-BCE5-49C2-AB02-40A750DD37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5BB2-3F18-4D42-899B-B16FBDA372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6909-01DC-4761-89AB-79F86A0C75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85CE-8ADE-42D5-A49E-2BD8293436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68F8-45A8-436D-9F85-392843832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570C-5672-479C-B6A1-AB23B2DC6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764F-D75B-4FF2-BBEC-B0D9BF56D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C022-E30A-4D4C-AFA9-BFFE2A91AE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F6F-8D1D-44FE-BA66-8848BD6ACA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D57A-3D66-43F3-B50F-64033EDF11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B616-5D53-4718-A866-A00B36629B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3710-6DEF-402E-8190-1A3DFDBCE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771640" y="3205080"/>
            <a:ext cx="36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1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77280" cy="5372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2"/>
          <a:stretch/>
        </p:blipFill>
        <p:spPr>
          <a:xfrm>
            <a:off x="1071720" y="3063960"/>
            <a:ext cx="4500360" cy="396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3"/>
          <a:stretch/>
        </p:blipFill>
        <p:spPr>
          <a:xfrm>
            <a:off x="1071720" y="3417840"/>
            <a:ext cx="38574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1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53240" cy="54291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2"/>
          <a:stretch/>
        </p:blipFill>
        <p:spPr>
          <a:xfrm>
            <a:off x="285840" y="10206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3"/>
          <a:stretch/>
        </p:blipFill>
        <p:spPr>
          <a:xfrm>
            <a:off x="285840" y="14479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4"/>
          <a:stretch/>
        </p:blipFill>
        <p:spPr>
          <a:xfrm>
            <a:off x="285840" y="184644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5"/>
          <a:stretch/>
        </p:blipFill>
        <p:spPr>
          <a:xfrm>
            <a:off x="285840" y="395928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6"/>
          <a:stretch/>
        </p:blipFill>
        <p:spPr>
          <a:xfrm>
            <a:off x="285840" y="435600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7"/>
          <a:stretch/>
        </p:blipFill>
        <p:spPr>
          <a:xfrm>
            <a:off x="285840" y="474516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8"/>
          <a:stretch/>
        </p:blipFill>
        <p:spPr>
          <a:xfrm>
            <a:off x="285840" y="517536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9"/>
          <a:stretch/>
        </p:blipFill>
        <p:spPr>
          <a:xfrm>
            <a:off x="285840" y="5602320"/>
            <a:ext cx="4786200" cy="3985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10"/>
          <a:stretch/>
        </p:blipFill>
        <p:spPr>
          <a:xfrm>
            <a:off x="285840" y="6031080"/>
            <a:ext cx="4786200" cy="3981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" descr=""/>
          <p:cNvPicPr/>
          <p:nvPr/>
        </p:nvPicPr>
        <p:blipFill>
          <a:blip r:embed="rId11"/>
          <a:stretch/>
        </p:blipFill>
        <p:spPr>
          <a:xfrm>
            <a:off x="5327640" y="3917880"/>
            <a:ext cx="33814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1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7801200" cy="29718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" descr=""/>
          <p:cNvPicPr/>
          <p:nvPr/>
        </p:nvPicPr>
        <p:blipFill>
          <a:blip r:embed="rId2"/>
          <a:stretch/>
        </p:blipFill>
        <p:spPr>
          <a:xfrm>
            <a:off x="357120" y="4714920"/>
            <a:ext cx="8353440" cy="16952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3"/>
          <a:stretch/>
        </p:blipFill>
        <p:spPr>
          <a:xfrm>
            <a:off x="285840" y="8254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4"/>
          <a:stretch/>
        </p:blipFill>
        <p:spPr>
          <a:xfrm>
            <a:off x="285840" y="12445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5"/>
          <a:stretch/>
        </p:blipFill>
        <p:spPr>
          <a:xfrm>
            <a:off x="285840" y="16826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6"/>
          <a:stretch/>
        </p:blipFill>
        <p:spPr>
          <a:xfrm>
            <a:off x="285840" y="2174760"/>
            <a:ext cx="8786880" cy="777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7"/>
          <a:stretch/>
        </p:blipFill>
        <p:spPr>
          <a:xfrm>
            <a:off x="285840" y="3083040"/>
            <a:ext cx="878688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Picture 1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7924680" cy="49532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3"/>
          <a:stretch/>
        </p:blipFill>
        <p:spPr>
          <a:xfrm>
            <a:off x="285840" y="161280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4"/>
          <a:stretch/>
        </p:blipFill>
        <p:spPr>
          <a:xfrm>
            <a:off x="285840" y="205092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5"/>
          <a:stretch/>
        </p:blipFill>
        <p:spPr>
          <a:xfrm>
            <a:off x="285840" y="2408400"/>
            <a:ext cx="4000320" cy="3981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6"/>
          <a:stretch/>
        </p:blipFill>
        <p:spPr>
          <a:xfrm>
            <a:off x="285840" y="287820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7"/>
          <a:stretch/>
        </p:blipFill>
        <p:spPr>
          <a:xfrm>
            <a:off x="285840" y="3297240"/>
            <a:ext cx="4000320" cy="3985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8"/>
          <a:stretch/>
        </p:blipFill>
        <p:spPr>
          <a:xfrm>
            <a:off x="285840" y="36892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9"/>
          <a:stretch/>
        </p:blipFill>
        <p:spPr>
          <a:xfrm>
            <a:off x="142920" y="41022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10"/>
          <a:stretch/>
        </p:blipFill>
        <p:spPr>
          <a:xfrm>
            <a:off x="142920" y="45306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11"/>
          <a:stretch/>
        </p:blipFill>
        <p:spPr>
          <a:xfrm>
            <a:off x="142920" y="49593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12"/>
          <a:stretch/>
        </p:blipFill>
        <p:spPr>
          <a:xfrm>
            <a:off x="142920" y="5460840"/>
            <a:ext cx="87868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1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8572320" cy="60962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2" descr=""/>
          <p:cNvPicPr/>
          <p:nvPr/>
        </p:nvPicPr>
        <p:blipFill>
          <a:blip r:embed="rId2"/>
          <a:stretch/>
        </p:blipFill>
        <p:spPr>
          <a:xfrm>
            <a:off x="5869080" y="3917880"/>
            <a:ext cx="2847960" cy="24573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3"/>
          <a:stretch/>
        </p:blipFill>
        <p:spPr>
          <a:xfrm>
            <a:off x="285840" y="390852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4"/>
          <a:stretch/>
        </p:blipFill>
        <p:spPr>
          <a:xfrm>
            <a:off x="285840" y="431640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5"/>
          <a:stretch/>
        </p:blipFill>
        <p:spPr>
          <a:xfrm>
            <a:off x="285840" y="4756320"/>
            <a:ext cx="5429160" cy="3981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6"/>
          <a:stretch/>
        </p:blipFill>
        <p:spPr>
          <a:xfrm>
            <a:off x="285840" y="517356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7"/>
          <a:stretch/>
        </p:blipFill>
        <p:spPr>
          <a:xfrm>
            <a:off x="285840" y="5583240"/>
            <a:ext cx="5429160" cy="398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8"/>
          <a:stretch/>
        </p:blipFill>
        <p:spPr>
          <a:xfrm>
            <a:off x="285840" y="6080040"/>
            <a:ext cx="87868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1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7362720" cy="53150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2"/>
          <a:stretch/>
        </p:blipFill>
        <p:spPr>
          <a:xfrm>
            <a:off x="285840" y="1019160"/>
            <a:ext cx="8786880" cy="7048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3"/>
          <a:stretch/>
        </p:blipFill>
        <p:spPr>
          <a:xfrm>
            <a:off x="285840" y="176544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4"/>
          <a:stretch/>
        </p:blipFill>
        <p:spPr>
          <a:xfrm>
            <a:off x="285840" y="2254320"/>
            <a:ext cx="8786880" cy="7048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5"/>
          <a:stretch/>
        </p:blipFill>
        <p:spPr>
          <a:xfrm>
            <a:off x="285840" y="300024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6"/>
          <a:stretch/>
        </p:blipFill>
        <p:spPr>
          <a:xfrm>
            <a:off x="285840" y="34290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7"/>
          <a:stretch/>
        </p:blipFill>
        <p:spPr>
          <a:xfrm>
            <a:off x="285840" y="381636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8"/>
          <a:stretch/>
        </p:blipFill>
        <p:spPr>
          <a:xfrm>
            <a:off x="285840" y="4245120"/>
            <a:ext cx="8786880" cy="3981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9"/>
          <a:stretch/>
        </p:blipFill>
        <p:spPr>
          <a:xfrm>
            <a:off x="285840" y="465300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10"/>
          <a:stretch/>
        </p:blipFill>
        <p:spPr>
          <a:xfrm>
            <a:off x="285840" y="505152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"/>
          <p:cNvPicPr/>
          <p:nvPr/>
        </p:nvPicPr>
        <p:blipFill>
          <a:blip r:embed="rId11"/>
          <a:stretch/>
        </p:blipFill>
        <p:spPr>
          <a:xfrm>
            <a:off x="285840" y="5583240"/>
            <a:ext cx="8786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4248360" cy="5067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767120" y="1714680"/>
            <a:ext cx="4162680" cy="4533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1062000" y="2543040"/>
            <a:ext cx="600120" cy="266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1962000" y="3666960"/>
            <a:ext cx="1073160" cy="266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3111480" y="4052880"/>
            <a:ext cx="1287360" cy="264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1590840" y="5221440"/>
            <a:ext cx="1073160" cy="266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3219480" y="5221440"/>
            <a:ext cx="1073160" cy="2664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6" descr=""/>
          <p:cNvPicPr/>
          <p:nvPr/>
        </p:nvPicPr>
        <p:blipFill>
          <a:blip r:embed="rId8"/>
          <a:stretch/>
        </p:blipFill>
        <p:spPr>
          <a:xfrm>
            <a:off x="7034040" y="2014560"/>
            <a:ext cx="1895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4181760" cy="4105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4819680" y="957240"/>
            <a:ext cx="4181400" cy="22575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3"/>
          <a:stretch/>
        </p:blipFill>
        <p:spPr>
          <a:xfrm>
            <a:off x="1654200" y="928800"/>
            <a:ext cx="2921040" cy="266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4"/>
          <a:stretch/>
        </p:blipFill>
        <p:spPr>
          <a:xfrm>
            <a:off x="131760" y="1284120"/>
            <a:ext cx="4443480" cy="3096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5"/>
          <a:stretch/>
        </p:blipFill>
        <p:spPr>
          <a:xfrm>
            <a:off x="42840" y="1698480"/>
            <a:ext cx="4443480" cy="308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6"/>
          <a:stretch/>
        </p:blipFill>
        <p:spPr>
          <a:xfrm>
            <a:off x="154080" y="2041560"/>
            <a:ext cx="4443480" cy="565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7"/>
          <a:stretch/>
        </p:blipFill>
        <p:spPr>
          <a:xfrm>
            <a:off x="65160" y="2759040"/>
            <a:ext cx="4443480" cy="565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8"/>
          <a:stretch/>
        </p:blipFill>
        <p:spPr>
          <a:xfrm>
            <a:off x="114480" y="3421080"/>
            <a:ext cx="4444920" cy="307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9"/>
          <a:stretch/>
        </p:blipFill>
        <p:spPr>
          <a:xfrm>
            <a:off x="98280" y="3835440"/>
            <a:ext cx="4443480" cy="307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10"/>
          <a:stretch/>
        </p:blipFill>
        <p:spPr>
          <a:xfrm>
            <a:off x="154080" y="4176720"/>
            <a:ext cx="4443480" cy="3096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11"/>
          <a:stretch/>
        </p:blipFill>
        <p:spPr>
          <a:xfrm>
            <a:off x="136440" y="4591080"/>
            <a:ext cx="4444920" cy="3078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12"/>
          <a:stretch/>
        </p:blipFill>
        <p:spPr>
          <a:xfrm>
            <a:off x="6219720" y="2886120"/>
            <a:ext cx="222588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452520" y="890640"/>
            <a:ext cx="8238960" cy="5753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2"/>
          <a:stretch/>
        </p:blipFill>
        <p:spPr>
          <a:xfrm>
            <a:off x="7486560" y="752400"/>
            <a:ext cx="1228680" cy="390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3"/>
          <a:stretch/>
        </p:blipFill>
        <p:spPr>
          <a:xfrm>
            <a:off x="8023320" y="2354400"/>
            <a:ext cx="352440" cy="307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4"/>
          <a:stretch/>
        </p:blipFill>
        <p:spPr>
          <a:xfrm>
            <a:off x="8005680" y="3236760"/>
            <a:ext cx="354240" cy="309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5"/>
          <a:stretch/>
        </p:blipFill>
        <p:spPr>
          <a:xfrm>
            <a:off x="2004840" y="6004080"/>
            <a:ext cx="354240" cy="3092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6"/>
          <a:stretch/>
        </p:blipFill>
        <p:spPr>
          <a:xfrm>
            <a:off x="6294600" y="6004080"/>
            <a:ext cx="353880" cy="3092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7"/>
          <a:stretch/>
        </p:blipFill>
        <p:spPr>
          <a:xfrm>
            <a:off x="2897280" y="6299280"/>
            <a:ext cx="35388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452520" y="880920"/>
            <a:ext cx="8238960" cy="57628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2"/>
          <a:stretch/>
        </p:blipFill>
        <p:spPr>
          <a:xfrm>
            <a:off x="601560" y="1733400"/>
            <a:ext cx="5278680" cy="308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3"/>
          <a:stretch/>
        </p:blipFill>
        <p:spPr>
          <a:xfrm>
            <a:off x="585720" y="2021040"/>
            <a:ext cx="5278680" cy="307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4"/>
          <a:stretch/>
        </p:blipFill>
        <p:spPr>
          <a:xfrm>
            <a:off x="568440" y="2308320"/>
            <a:ext cx="5278320" cy="3078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5"/>
          <a:stretch/>
        </p:blipFill>
        <p:spPr>
          <a:xfrm>
            <a:off x="687240" y="2585880"/>
            <a:ext cx="5278680" cy="3096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6"/>
          <a:stretch/>
        </p:blipFill>
        <p:spPr>
          <a:xfrm>
            <a:off x="8132760" y="3608280"/>
            <a:ext cx="35388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438120" y="990720"/>
            <a:ext cx="8267760" cy="5352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2"/>
          <a:stretch/>
        </p:blipFill>
        <p:spPr>
          <a:xfrm>
            <a:off x="1231920" y="1266840"/>
            <a:ext cx="542880" cy="307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3"/>
          <a:stretch/>
        </p:blipFill>
        <p:spPr>
          <a:xfrm>
            <a:off x="1224000" y="1852560"/>
            <a:ext cx="353880" cy="3096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3" descr=""/>
          <p:cNvPicPr/>
          <p:nvPr/>
        </p:nvPicPr>
        <p:blipFill>
          <a:blip r:embed="rId4"/>
          <a:stretch/>
        </p:blipFill>
        <p:spPr>
          <a:xfrm>
            <a:off x="6562800" y="3321000"/>
            <a:ext cx="2143080" cy="16765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5"/>
          <a:stretch/>
        </p:blipFill>
        <p:spPr>
          <a:xfrm>
            <a:off x="617400" y="3330720"/>
            <a:ext cx="5372280" cy="307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6"/>
          <a:stretch/>
        </p:blipFill>
        <p:spPr>
          <a:xfrm>
            <a:off x="601560" y="3608280"/>
            <a:ext cx="5372280" cy="309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"/>
          <p:cNvPicPr/>
          <p:nvPr/>
        </p:nvPicPr>
        <p:blipFill>
          <a:blip r:embed="rId7"/>
          <a:stretch/>
        </p:blipFill>
        <p:spPr>
          <a:xfrm>
            <a:off x="657360" y="3903840"/>
            <a:ext cx="5371920" cy="3092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8"/>
          <a:stretch/>
        </p:blipFill>
        <p:spPr>
          <a:xfrm>
            <a:off x="568440" y="4229280"/>
            <a:ext cx="5371920" cy="3092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9"/>
          <a:stretch/>
        </p:blipFill>
        <p:spPr>
          <a:xfrm>
            <a:off x="552600" y="4500720"/>
            <a:ext cx="5371920" cy="307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10"/>
          <a:stretch/>
        </p:blipFill>
        <p:spPr>
          <a:xfrm>
            <a:off x="534960" y="4788000"/>
            <a:ext cx="6027840" cy="3078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11"/>
          <a:stretch/>
        </p:blipFill>
        <p:spPr>
          <a:xfrm>
            <a:off x="519120" y="5146560"/>
            <a:ext cx="8186760" cy="3081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12"/>
          <a:stretch/>
        </p:blipFill>
        <p:spPr>
          <a:xfrm>
            <a:off x="501480" y="5454720"/>
            <a:ext cx="8188560" cy="558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13"/>
          <a:stretch/>
        </p:blipFill>
        <p:spPr>
          <a:xfrm>
            <a:off x="387360" y="6048360"/>
            <a:ext cx="818676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290520" y="1452600"/>
            <a:ext cx="8562960" cy="3952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7858080" y="404352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271440" y="1028880"/>
            <a:ext cx="8601120" cy="48006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2"/>
          <a:stretch/>
        </p:blipFill>
        <p:spPr>
          <a:xfrm>
            <a:off x="8072280" y="500076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486640" cy="5153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7929720" y="142884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2214720" y="2000160"/>
            <a:ext cx="1357200" cy="3970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4"/>
          <a:stretch/>
        </p:blipFill>
        <p:spPr>
          <a:xfrm>
            <a:off x="4429080" y="571500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01:12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